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4E972-6D64-44C6-946E-4F917FC68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D928-AA35-487E-AD71-4E0F436F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4B9C6-8FA7-4880-B117-624563DA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39A58-7CD3-4706-8AD2-7613C43AE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FC7C-87A4-4882-A4CE-B7375DB91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2C695-A4FB-4B36-A5A1-BC0838D2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B4173-F8AE-4054-BCAD-DDCDF2012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1996E-215B-4F00-90F5-5D2FE698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D5683-742F-442B-8BD0-504BE594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15B6-1171-42E0-8712-A99EA01A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C5C6-5322-4CB7-B7C7-D3763026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5542-B295-437C-A0D3-90EEDF2D1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5C98-F250-491D-9578-28C212DF1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a:hlinkClick r:id="rId1" action="ppaction://hlinksldjump"/>
          </p:cNvPr>
          <p:cNvSpPr/>
          <p:nvPr/>
        </p:nvSpPr>
        <p:spPr>
          <a:xfrm rot="558000">
            <a:off x="2514240" y="1676520"/>
            <a:ext cx="3657600" cy="2819160"/>
          </a:xfrm>
          <a:custGeom>
            <a:avLst/>
            <a:gdLst>
              <a:gd name="textAreaLeft" fmla="*/ 1350360 w 3657600"/>
              <a:gd name="textAreaRight" fmla="*/ 3545280 w 3657600"/>
              <a:gd name="textAreaTop" fmla="*/ 120240 h 2819160"/>
              <a:gd name="textAreaBottom" fmla="*/ 698760 h 281916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a:hlinkClick r:id="rId2" action="ppaction://hlinksldjump"/>
          </p:cNvPr>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custGeom>
                  <a:avLst/>
                  <a:gdLst>
                    <a:gd name="textAreaLeft" fmla="*/ 0 w 983520"/>
                    <a:gd name="textAreaRight" fmla="*/ 983520 w 983520"/>
                    <a:gd name="textAreaTop" fmla="*/ 0 h 1158120"/>
                    <a:gd name="textAreaBottom" fmla="*/ 414000 h 115812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custGeom>
                <a:avLst/>
                <a:gdLst>
                  <a:gd name="textAreaLeft" fmla="*/ 0 w 848880"/>
                  <a:gd name="textAreaRight" fmla="*/ 849240 w 848880"/>
                  <a:gd name="textAreaTop" fmla="*/ -360 h 703080"/>
                  <a:gd name="textAreaBottom" fmla="*/ 250920 h 70308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custGeom>
            <a:avLst/>
            <a:gdLst>
              <a:gd name="textAreaLeft" fmla="*/ 0 w 1117440"/>
              <a:gd name="textAreaRight" fmla="*/ 1117440 w 111744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custGeom>
            <a:avLst/>
            <a:gdLst>
              <a:gd name="textAreaLeft" fmla="*/ 0 w 1117800"/>
              <a:gd name="textAreaRight" fmla="*/ 1117800 w 111780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custGeom>
            <a:avLst/>
            <a:gdLst>
              <a:gd name="textAreaLeft" fmla="*/ 489960 w 1326960"/>
              <a:gd name="textAreaRight" fmla="*/ 1286280 w 1326960"/>
              <a:gd name="textAreaTop" fmla="*/ 44640 h 1047600"/>
              <a:gd name="textAreaBottom" fmla="*/ 259560 h 104760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HP</cp:lastModifiedBy>
  <dcterms:modified xsi:type="dcterms:W3CDTF">2010-10-14T01:17:16Z</dcterms:modified>
  <cp:revision>52</cp:revision>
  <dc:subject/>
  <dc:title>The Atoms Family</dc:title>
</cp:coreProperties>
</file>